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034-0045-41BE-9CBE-4D12042C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281-19FB-47BF-908E-59D2B2B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A70-E529-4AFA-A5C5-995D7F2E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33E-6A6F-4164-883E-7514BD0C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821-261A-41AB-A9BC-E80D8D79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778-DCB2-487A-889F-A27AA198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B78-9E32-450B-8230-53E1A02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28C-2BE5-4BDE-8CA2-84253158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239-49F4-4053-A212-F69DE5D1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A28-A2E6-416E-91A5-4933394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48F-C9F4-4AE2-BE16-A493BAE1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06A-34B2-4C94-B502-FE12EDE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D83A-E309-4EB3-A319-7512CB1C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502" t="0" r="10836" b="8060"/>
          <a:stretch/>
        </p:blipFill>
        <p:spPr>
          <a:xfrm>
            <a:off x="0" y="1752480"/>
            <a:ext cx="9144000" cy="2662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449892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0862" t="0" r="21763" b="0"/>
          <a:stretch/>
        </p:blipFill>
        <p:spPr>
          <a:xfrm>
            <a:off x="1066680" y="0"/>
            <a:ext cx="3353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8858" t="0" r="12813" b="12604"/>
          <a:stretch/>
        </p:blipFill>
        <p:spPr>
          <a:xfrm>
            <a:off x="1219320" y="533520"/>
            <a:ext cx="3138480" cy="541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216216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9429" t="0" r="24602" b="2706"/>
          <a:stretch/>
        </p:blipFill>
        <p:spPr>
          <a:xfrm>
            <a:off x="1066680" y="990720"/>
            <a:ext cx="4038840" cy="389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2668680"/>
            <a:ext cx="4343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362" t="1486" r="10374" b="3168"/>
          <a:stretch/>
        </p:blipFill>
        <p:spPr>
          <a:xfrm>
            <a:off x="4724280" y="0"/>
            <a:ext cx="377208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616040"/>
            <a:ext cx="37335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3:39:27Z</dcterms:created>
  <dc:creator>nbdoe</dc:creator>
  <dc:description/>
  <dc:language>en-US</dc:language>
  <cp:lastModifiedBy>nbdoe</cp:lastModifiedBy>
  <dcterms:modified xsi:type="dcterms:W3CDTF">2007-04-15T14:08:38Z</dcterms:modified>
  <cp:revision>2</cp:revision>
  <dc:subject/>
  <dc:title>Slide 1</dc:title>
</cp:coreProperties>
</file>